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49E2-6331-4C24-B95E-B23DDDED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46F-F442-4B56-A75E-91D49D4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E0F-1DC1-4A49-9FD1-10B0525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04C-9314-40DC-A3EE-75BA271A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3450-5506-4B68-891D-9FF55CA1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76B3-E8E6-413A-A6DD-2F36A18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8A23-6263-4361-BBC2-8165C07B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2934-813C-4FFD-BDE6-CF518CE1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304F-3310-4FF5-AED9-F8ACC5DF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7FD7-9C6F-454B-91E9-A27A2530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944D-F141-409E-B0A3-D2D148AE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255-04B7-43CC-9673-B33E02F5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DBE4-1CE9-4194-B582-455665A1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0955-7182-47EF-BD41-BD50E9CC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9BEC-E8B4-46AE-90B1-6D12836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1106-022B-4D98-99A0-056E7FAE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4C03-DB49-485C-B8DC-DED5A507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747-9A06-4ECE-9814-DAC7AB20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95F-B954-4A03-98F1-D1ACFDB7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FFD-F954-4454-9AEA-32ACD2A2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6DD-CC79-4EA8-916D-08A15F2A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86C-B888-4115-B547-53CCF4F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3A2-F464-4320-9B8F-6BC01011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C72-2152-4A9D-A5CD-9289204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892-9F70-44D7-9988-67E0E2BD771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594D-FF40-4563-9906-5E2DD2234C7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1596960" y="298440"/>
            <a:ext cx="7096320" cy="3121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итель  начальных класс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У «СОШ № 2 г. СУЗДАЛЯ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I:\DCIM\101MSDCF\DSC00631.JPG"/>
          <p:cNvPicPr/>
          <p:nvPr/>
        </p:nvPicPr>
        <p:blipFill>
          <a:blip r:embed="rId2"/>
          <a:stretch/>
        </p:blipFill>
        <p:spPr>
          <a:xfrm>
            <a:off x="961920" y="1843200"/>
            <a:ext cx="3381480" cy="448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I:\DCIM\101MSDCF\DSC00633.JPG"/>
          <p:cNvPicPr/>
          <p:nvPr/>
        </p:nvPicPr>
        <p:blipFill>
          <a:blip r:embed="rId3"/>
          <a:stretch/>
        </p:blipFill>
        <p:spPr>
          <a:xfrm>
            <a:off x="4724280" y="1843200"/>
            <a:ext cx="345780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SC00644"/>
          <p:cNvPicPr/>
          <p:nvPr/>
        </p:nvPicPr>
        <p:blipFill>
          <a:blip r:embed="rId2"/>
          <a:stretch/>
        </p:blipFill>
        <p:spPr>
          <a:xfrm>
            <a:off x="1905120" y="1371600"/>
            <a:ext cx="5486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DSC00648"/>
          <p:cNvPicPr/>
          <p:nvPr/>
        </p:nvPicPr>
        <p:blipFill>
          <a:blip r:embed="rId2"/>
          <a:stretch/>
        </p:blipFill>
        <p:spPr>
          <a:xfrm>
            <a:off x="2438280" y="1219320"/>
            <a:ext cx="4267440" cy="53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DSC00640"/>
          <p:cNvPicPr/>
          <p:nvPr/>
        </p:nvPicPr>
        <p:blipFill>
          <a:blip r:embed="rId2"/>
          <a:stretch/>
        </p:blipFill>
        <p:spPr>
          <a:xfrm>
            <a:off x="304920" y="1371600"/>
            <a:ext cx="4267080" cy="533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DSC00641"/>
          <p:cNvPicPr/>
          <p:nvPr/>
        </p:nvPicPr>
        <p:blipFill>
          <a:blip r:embed="rId3"/>
          <a:stretch/>
        </p:blipFill>
        <p:spPr>
          <a:xfrm>
            <a:off x="4800600" y="1371600"/>
            <a:ext cx="4210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SC00645"/>
          <p:cNvPicPr/>
          <p:nvPr/>
        </p:nvPicPr>
        <p:blipFill>
          <a:blip r:embed="rId2"/>
          <a:stretch/>
        </p:blipFill>
        <p:spPr>
          <a:xfrm>
            <a:off x="228600" y="1295280"/>
            <a:ext cx="3809880" cy="5410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SC00638"/>
          <p:cNvPicPr/>
          <p:nvPr/>
        </p:nvPicPr>
        <p:blipFill>
          <a:blip r:embed="rId3"/>
          <a:stretch/>
        </p:blipFill>
        <p:spPr>
          <a:xfrm>
            <a:off x="4191120" y="2209680"/>
            <a:ext cx="48006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SC00650"/>
          <p:cNvPicPr/>
          <p:nvPr/>
        </p:nvPicPr>
        <p:blipFill>
          <a:blip r:embed="rId2"/>
          <a:stretch/>
        </p:blipFill>
        <p:spPr>
          <a:xfrm>
            <a:off x="2590920" y="11430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0720" y="3636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ливать тебя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хаживать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блюдать за тобой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ддерживать твои веточки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добрять землю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ечить тебя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овремя убирать урожай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е ломать твои веточки и лазить по тебе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збавлять тебя от насекомых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весить кормушку и пригласить птиц;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181080" indent="-446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любить, восхищаться и любоваться тобой во все времена года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настоящее время более актуальным становится использование в образовательном процессе приёмов и методов, которые формируют умения самостоятельно добывать новые знания, собирать необходимую информацию, умение выдвигать гипотезы, делать выводы и умозаключения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та проблема в начальной школе решается через организацию проектной деятельности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тод проектов составляет основу проектного обучения, смысл которого заключается в создании условий для самостоятельного усвоения школьниками учебного материала в процессе выполнения проектов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собое внимание стараюсь уделять единству и взаимодействию трёх сторон воспитательного процесса ученик – родители – учитель. Последний выступает в роли фасилитатора. Помогая детям двигаться шаг за шагом от простого к сложному, оставляя за собой возможность корректировать деятельность учащихся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течении учебного года проведена работа по организации проектов: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« Это волшебное яблочко » ( сентябрь, октябрь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социальный проект « Малыш встречает Новый год » ( ноябрь, декабрь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« Моя семья » ( долгосрочный );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- музыкальный « Вот чему мы научились »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ивожу пример презентации одного из проектов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связи с экологической обстановкой страны и нашего города, в частности, растёт необходимость более углублённого развития экологического воспитани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данном проекте передо мной стала цель- прививать любовь к родному городу через наблюдение и изучение природы города, традиций древней старины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 помочь детям не только овладеть УУД(креативность, коммуникабельность, мобильность, гибкость), но и развивать творческие способности?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Как научить детей уважению, заботе, терпеливости, сотрудничеству?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ветить на эти вопросы частично помог праздник «Яблочный денёк»,который и натолкнул на мысль создания проекта «Это волшебное яблочко»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74600" indent="-38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l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1316160" y="60480"/>
            <a:ext cx="7377120" cy="2974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29714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способствовать развитию экологического мышления учащихся,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развивая навыки социального общения и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воспитывая бережное отношение к окружающей среде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467920" cy="1457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Развивать экологическое мышление детей 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Учить  взаимодействию, сотрудничеству, по установленным правилам работы в командах , группах 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Показать моменты положительного влияния на  экологическое состояние своего города;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*    Воспитывать лучшие качества личности и  уважительное отношение к родному краю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50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ыбор темы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ведение праздника «Яблочный денёк»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ыставка книг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курс рисунков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нкурс подело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аздничный стол с продуктами из яблок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Сбор сведений и  выбор темы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*Беседы, экскурсии, посещение Земской школы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*Рассматривание объяснительно-иллюстративного материала и обсуждени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Выставка продуктов Ефросиньевской ярмарк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85680" indent="5076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96840" y="146160"/>
            <a:ext cx="8827920" cy="718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Использование специальной литературы и подготовка  индивидуальных проек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Оформление  эскиза грамоты  для награждений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* Презентация индивидуальных проектов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коллективного продукта: папки с демонстративно-иллюстрационным материалом для внеклассных занятий и проведения праздника «Яблочный денёк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73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ллективное составление и оформление обещаний яблоньке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4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242560" cy="88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I:\DCIM\101MSDCF\DSC00635.JPG"/>
          <p:cNvPicPr/>
          <p:nvPr/>
        </p:nvPicPr>
        <p:blipFill>
          <a:blip r:embed="rId2"/>
          <a:stretch/>
        </p:blipFill>
        <p:spPr>
          <a:xfrm>
            <a:off x="1752480" y="121932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52280"/>
            <a:ext cx="827892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I:\DCIM\101MSDCF\DSC00634.JPG"/>
          <p:cNvPicPr/>
          <p:nvPr/>
        </p:nvPicPr>
        <p:blipFill>
          <a:blip r:embed="rId2"/>
          <a:stretch/>
        </p:blipFill>
        <p:spPr>
          <a:xfrm>
            <a:off x="1905120" y="1066680"/>
            <a:ext cx="5029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Б Класс</cp:lastModifiedBy>
  <dcterms:modified xsi:type="dcterms:W3CDTF">2011-06-08T09:42:47Z</dcterms:modified>
  <cp:revision>37</cp:revision>
  <dc:subject/>
  <dc:title>Козлова Галина Владимировна</dc:title>
</cp:coreProperties>
</file>